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49F-352D-4583-8E3F-203EE4C9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EF6-059F-4E5D-965C-0A1BE76F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61795-2F58-4CA3-9392-0299C5A1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D9451-F70B-4F37-A841-C7F86715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164C6-271C-400B-9945-54BDCD2F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DDD0E-3A8A-4170-985A-953D2FF6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0A203-CF46-4CB2-BFAB-4E8FADB2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48D8A-C25C-4542-8A88-2E5468AC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D3DAC-37D8-4DBF-A5B5-476025EC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B6AA9-8AD9-4B6C-978B-955AFE7D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9A134-DCED-40C6-B34A-724D4A71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1B8E1-F0EB-4685-A470-67CA8D56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AB0-4820-47A4-987F-9BA15266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B2729-C86B-4BD2-B18D-2C4F600D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F57E3-58C7-42F4-98A4-CD677881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E30C2-4321-4340-80A7-382DFED9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97BB8-3DCB-4320-90C9-05C5A959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23DFD-BCEB-4BEB-983B-FACEA33B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08A96-6EC7-432F-AECF-E81CF7AA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AEAC0-9F5F-4497-A398-313ABCA0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44747-FC1A-459E-8207-5B2DC2CE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72CA3-6ABA-447D-8010-47C338FA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A1A33-8A56-42C1-8D2F-99F4A674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776-7178-494E-9C33-61F6C726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EC698-3864-4505-A585-D06C3090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9201C-7443-4F2A-ACAD-DE222965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F478F-D4C4-401D-889A-ADD1604C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4ACCF-077A-40D0-9AD3-C2CF948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CDFBD-7682-492F-8F4E-B3BA9BBF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B9F2A-5424-4A07-96C9-05DEE410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D3807-83AE-4D7E-BF78-60EA6267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076BA-7964-45B7-8EF1-B82FB29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910C7-1833-4318-A824-FFDD2FE4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FAF3B-4B08-4268-ADE1-34805AC8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48F0-E3E3-4D9D-8C8A-6D520B4C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0F1D9-AFA4-4512-80D2-527CE85D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93EAA-C2FA-4690-8239-3A427F79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75752-AD5A-43B1-879A-3BCAA93A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48C2C-8548-4FD1-BB48-3B253120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487F4-A6A2-42E6-B806-88AF4BA5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D6727-BBCC-4FC2-BE9C-58968E40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91030-C44E-4DB0-8BE6-1CED4366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29D92-FE3C-4B3D-83A7-02714276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6423F-36DD-4635-B97D-65C5A5AE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DE469-18EE-4D55-B67E-41F13429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E37C-2957-43BB-9B9F-19428B94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D2C1A-14F8-4E6A-813B-14C20F10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92905-5AFC-4BCE-A376-A66746B1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EC42B-518F-46ED-9311-3C5CB581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1B97E-05EE-478F-AF57-82D2D227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7DE68-1D37-4E5B-9264-3C918F6B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ED715-33DF-4EA9-895D-61D07623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FF51B-8914-4DFD-B42F-A56137A4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780F7-9520-48AD-9AF8-303BCBA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B17BB-A187-42B9-BF82-A8FDDD9F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E5077-9899-4138-8B2F-665BD565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451B-E57A-456D-8EA8-8C37AB1D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AA0A3-AFB9-4DE9-AC1F-8CAA6C0F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78BB0-8D59-42D3-8198-591FAEAF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95B3F-95FD-447A-BF67-47EB42E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4F2E7-3A8A-4505-B7EA-A7FC726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F428A-1556-404E-BF5F-035ACBC9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FB402-C745-434A-A22B-265E47AF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8153E-246C-4A89-8918-58C71D3D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52C10-01A2-4675-A550-CED67296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94E7B-A2FC-4623-A41B-1717DF08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EBBFD-A6C7-408E-A186-8E9D7E22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F0D-C47E-4063-A061-6C9AB201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329EB-AFD3-46E4-84A8-A15C54C1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E5A7F-CE59-4474-BD95-8B507B91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11209-F59E-4A2C-9BB7-6F5329A0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D1600-6401-4C43-A68C-F862B737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52171-AD70-4436-85A7-E91A32D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3494A-8697-4B42-9D26-AF8092B5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A2268-D00A-4CD5-965E-9379266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5E93A-6492-4862-91F5-DC3A74AD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334A6-295D-4E81-9CE8-9C90AFEC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BC7C3-1A20-42FA-AB69-C56B55EC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46D9-D6CE-4CDE-AE84-7CA13058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DF38B-5F7D-4707-A7E5-5BD42A6E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F87C7-DECF-42DB-BD3D-1E595313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EAFF1-ED52-40D8-A89D-36FBDD13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B3689-B214-40D7-9D45-6E149121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0BEA3-508E-480D-8995-DDAB96A3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2C095-CE38-47E2-BB08-C110915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3A79E-7861-4C0B-8146-22C81565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47F70-0520-4285-B0B7-58693C4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D2BBB-EA57-436B-9432-92DAAEE8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3C40C-3D8E-421A-9D51-6C5F2142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1014-8950-476C-B36C-EF03FCBE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57DCC-728D-4BEF-A6C6-FD2CCCA6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E8AA3-0950-4D25-94DE-9A8ACAEC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F7AE2-4B9A-40C1-8923-5E43B80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76C5C-61B0-4400-83C7-4B896654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1C15A-92AA-4DE5-A7D7-73E6C61F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9597C-17DE-441A-9D1F-B211269A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1261C-C9A2-4D59-83DC-9D818DB8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CC248-5755-4DD3-ACFF-C838331F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DC26D-1B05-43F1-831A-91CA1D5F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48465-EDF3-47BC-BCD3-8A6119FE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4E3A-E9DE-4850-9F98-8F5EDF30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EE2E4-5707-479B-8789-EE3EB9A9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666C6-F36C-476E-B487-06B0A416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E70C3-E2C6-4019-B91B-18B91758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0D5CC-1508-4635-8FF8-27F84EEF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71010-5C76-4CC5-A4B2-46FA58B4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5C5238-0F01-46A9-8214-1FAA83E5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2B5EC-9BD3-4AC7-AB08-6A75C9F7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9BC040-65BD-4425-9D35-5AEBB68E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95B7E-EE36-4315-8E7C-693318D7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166025-AA17-4B6C-9D89-A4B756E7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4AC-9FB6-4B43-9E39-56AC0C5F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B203-AD64-4E40-BE21-7007F4A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75C85-A931-4B3B-BFEB-3F740052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8DE61-D284-4A90-ACAE-2129EF55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1CBD0E-52DE-42FA-A339-968BD5B2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B6097-3902-489E-9D5A-EEAFB5F9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B3BFD1-D52B-4FDF-8AB7-46FC85D9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57296C-AC57-4523-AF4A-9BF9C68B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12FD45-8661-4CAD-BCFC-581A3495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658B16-9E4B-4C12-982A-00ED53A9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C461D-13E3-4D1F-A2F5-5CE39349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1FFF0-6546-4AD2-B3EE-1BD486BC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44A6-2EC7-412B-A239-01B9863F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7B842-677E-4B55-BE5E-3BF4CE3C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9D635-47DE-426B-ADAA-256AE4A9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5177A8-7412-42A9-B734-CBD8E67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AB137-8AD8-4D5B-811C-51752AE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7C8010-00D9-4501-AB53-ACD76D06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4EB8A-9392-4DF1-B5FC-5C0C879A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0FAEF-1D56-4DFA-9901-FD9485AC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87208-1ACB-4F89-B50A-265AC072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54574-1F25-4F71-B194-FE7340EF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36600-323B-427A-A3F2-7C3EB358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48AC-176E-484A-BB45-DDA6D15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3E496-BE7A-4842-8394-04DD74BD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8AC3D9-3484-45A8-8B80-AD22F78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7E6C3-0DF3-4A64-B0A8-F12EAE61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2F0454-F717-4A8D-915C-EEC7C545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060E99-2C5F-40C3-9077-ED788495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FE686-3116-466F-BF03-CA076E70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F9451-4868-4D2D-9A26-4AE37598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B90D88-8D8B-43D3-9A0D-B239F733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2A9E6-2465-453F-BED8-F21BCADF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22D15F-3E93-4E86-8AE9-BAE75976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D537-0D87-4073-A07E-EA3D812D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568CF-6DAC-456F-8730-5AB3A1FE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1C8B20-2DC2-4EBB-84B0-35635F90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EF1CD-7096-49ED-9F92-11CFDA6D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F4ED8E-6BA3-4DF6-958B-CCEEAC95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951B9-1DA7-4214-9C5B-CBE696B1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A25CA-824A-4B54-BDDE-8E6FA2C6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834F7C-05E2-4FDB-BEB0-C68A549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43406E-F8B1-4F82-8870-4A77E98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EFD3BD-871F-44DA-899A-F1A049D5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99106-5C07-4083-BADF-4BE34EB9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4835-5CB9-4285-90C3-C5A38D6A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AEF3A-6694-4554-B548-276FD686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CD9A5-CE22-4CA5-8B81-4BBBBD6B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4C8C2E-843D-453F-B232-00002F5F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75C4C7-49DE-4979-80AC-599BD192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7EB222-39E9-4AC7-95B7-9280F97D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7A2B2-EC79-4E51-9D96-270012D1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1EF53D-7302-47C8-B4DD-6C22708F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A61041-5233-45D2-80A2-840D210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788570-CBC9-4829-996C-B110AE8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127817-EC0E-4324-95E8-F00FAB4E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EF9F-0EF1-4718-8891-EFD94968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C3140A-E174-4551-AD41-DE21A152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DC450-8D92-4779-96A7-19573D77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6A651-AA57-4BB7-A3B2-B30C8CE6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39326B-A58F-4829-8DC3-FE779BDE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C65DFC-DB3F-4371-98F6-8BF8B18E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684A20-DF88-44F0-B79C-214CFB52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FDE576-6916-4474-B9D5-417B3B2C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F1C71-993E-4F3B-B9EF-F7F2A3D6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766833-D506-48F1-8627-5CB84573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69D85C-957D-4740-8466-B87EEC7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7D87-251A-4ADE-92CB-5DC0BEA4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5971B1-965C-4832-9DBC-08F91F56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4CA021-67EE-482A-BFDD-2E118A53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4E49DD-BA35-402C-8EC6-A2E062AB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B4AEE7-AE6D-476B-A1BD-7E2B63FE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4CDD94-7581-4732-ABD6-F6180018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E6033-A8A4-4981-BDF7-45CE4B14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25D2E3-9EDD-4FFF-B01E-78CA62EF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A3337-5CBE-4DC7-B16D-5078E73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59EC20-9D40-44FE-A4A7-585184D4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BB5194-DD0B-4454-BC66-8BA723A2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F54C-CB7F-468F-B2E4-C80183C5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636866-62E2-491F-A7BC-41185110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6FFF1A-3D71-4747-8572-D97E5FD1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60DC2B-5ABE-4AB1-A0E1-927080E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F42F23-04C2-42F8-9B83-EE57B6E6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CC58A0-7970-4940-8FE1-C20EFB41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E07500-4CB1-4919-8C4E-6E6E24EE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339D65-74CB-4922-B226-5BDA89A6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D5CA-F451-4154-BE00-BF092799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DC37-E98C-41BB-B152-FF9B64EC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EE5-61E7-4B5A-827A-FD25F8C6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FF9C-5787-4AAD-9ACD-AA25CB82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E4B5C-26EF-42F4-8000-6D1C39E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D6A2-52CD-428E-BC61-29599F41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CC7A-CABC-4233-8F4C-EA39037C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6C24-45F6-4A48-B301-786787D4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37E8-5447-4E0E-BEE0-A98212FD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2BA1-0021-423B-95B3-A2404119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E2EE2-19E1-4051-B0A0-C5B77D3B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196B-A4D8-4CA1-9BD9-825FF204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13C94-2EC4-4447-87D5-5AF63C15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2E7-6629-4A89-92F3-BF5F86CD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FC300-1CBF-453F-AB01-0C153F8C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87F65-5783-4286-ABAC-B5220F76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7026B-1920-41EC-B948-BCB2878C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32139-2B60-4A34-9315-758288BD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758C-DC6F-45E0-90C1-75B105F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3467-226E-4F01-BC73-5A4DC552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3E0DC-D3DF-4721-82B0-7CFBD11C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B5F0-22C2-4FB9-B7B7-6CB1881E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AEFD8-C10D-4A99-9F8D-85B24981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3A40-EAFB-4D02-BF36-98B0D620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975-5E14-4EAA-BEA5-6D14D080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64EC7-47AC-4AE6-AE2B-29254B98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24FB-58E9-4805-BBB9-4E128544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434C8-9447-4C7D-A62B-7D1ECFC7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6D64-892F-42D4-9114-B0669F80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FA36-B774-4376-BA8D-DE64E6F3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A55B7-873C-4A87-83E1-8F200DEE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DD41-D862-4BFA-A930-F4AD365B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F315A-3EB6-41CB-BE18-79BDC9B1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EFCB1-487B-48C7-9030-7D081A76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2EE7E-226C-41BE-9143-9F6A9D17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C89-703E-491B-B7DC-F1407327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B2484-2A8E-4499-8F83-5CDBF3E8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E01CA-9283-461C-B494-AD8A186F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93965-8034-4700-9584-9B6E5C85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DBAAE-59CB-4C52-9E2A-0E744A90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6DD8F-6701-4DAD-951B-355BA494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E1C6D-A16E-43A1-BA90-E3ED3FF1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E3293-7FE8-48F4-9FCD-2565517D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F9701-14A4-4164-8752-5123DFA2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F7EA-7E2F-4C22-852F-2E371BF4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AC33F-25FE-43B5-BB54-E835AA8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BF1-0109-4420-862D-92D79B9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72590-F13B-4CAF-A794-96D54293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6A5CB-BDD2-4C58-A5EB-BDB1ECA4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0C847-4227-4247-A96B-A096358F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EDCAA-E064-4E40-81E3-0139D1AE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58533-394E-4E83-9A99-A7875126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F831B-70FC-4BD9-A126-68F00B03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31CAD-2B6B-4CD8-8DB8-E4802FD6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82D6-FF47-4AE0-9E73-20C3586D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A6E1C-192C-430E-B895-EF592BE4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1C0F9-2C71-423B-B2E9-51BF75FC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C4C-A22F-4969-93F2-C0799366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A621F-874D-4593-946E-ADBC0C58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D3B74-DFD3-4593-9CE9-15DDA194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CB1C7-83D0-44D0-9DA9-C415F0B1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8010F-C069-463C-BB39-A7720421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F703B-6759-4C1E-9441-9271A9C7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F9751-D764-4203-AA27-F6AFA8E1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89D82-EF5A-4A36-A4E0-77936436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8D636-0743-45FD-8FCA-370060F6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57FF8-7D10-48D4-9995-449FEEE5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C1E23-8D12-49AE-8395-D15021A8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0E1-752C-436D-BA12-5DE26986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5DC2A-5A4B-4EDF-AE74-A141387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C87F8-1734-47D9-A2C9-C53C4C22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47288-78CC-4ECB-B03B-3EF785DD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DA0BC-BE94-489C-9CF4-2543FFB5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F2BDD-3B84-4412-876D-94FBCA29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A5074-03C5-426F-A699-B3E87632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8C2CB-C304-4747-A403-44FD9AC5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5E634-9E7E-40FE-8670-B758B64D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CD872-7DED-4912-8ED5-87F06412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C248E-F23F-4512-B621-82BEFDB0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EE37-BA24-46D4-9995-6DD4CB8B1F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54AC-51E7-4314-A6AB-EBED08CA6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F15D-8817-43AE-A2C8-D7200B040C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2E52-7A51-47DE-84CC-6B1FE221E0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6ECC-F975-4EA3-87D7-F1DFE59C60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2D6A-BF69-4DD8-8968-AA250DE55B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F437-7839-48FB-A4B0-8C772BA318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023A-8077-4284-AD4C-CCDB9DBD6B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E44-34F6-4D96-92E0-BA8C20C411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069C-22C9-463B-99AB-AE2A2EE5DC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A49A-EB33-42B5-8B5D-0F8D7DF1B3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BCF7-323A-4185-AD49-0A8C9A256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F5E7-1692-4D73-93E5-23ED079C6D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5E59-FDDA-4285-B64D-33CA694F59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9DD7-57E2-4B5A-8A4B-FF3D2BF12C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6615-D918-4E56-85C0-EE9C80F5F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CDE-7989-453A-B255-3CED8C999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EAC9-D767-46DA-A9A9-14043344AE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BB13-D269-49E1-ACAF-DDA9E925CF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9267-BE89-47BE-9E11-E287170DE5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D032-A10D-4328-8DA6-8EDEC87075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8C6A-32B8-405C-9735-68F7FF793A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6ECD-D2B9-44CC-9764-EC8DD86656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5539-FD69-43FD-953F-FC0752B95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9AD6-13BD-4E8B-BF69-115206F282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4B30-C58A-4812-887E-50446EFAD6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2419-3C77-4F24-B94D-6ECF2FFABA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575D-7EE5-46FC-B702-0DE155490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40AF-0F3F-4405-8D35-82A32D3633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71FF-CAF8-40E8-ADBF-57D9AF4776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06D5-457A-47ED-8426-1CB8C185B3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9DA1-57F9-4E38-ADBD-CDA5B0DE0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CF8F-BD95-4974-84D3-5FD7493C14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3636-6832-4DD5-BDA2-27A1C7B0B9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2E31-3864-466E-A156-2D426737B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B973-9BB2-4234-9018-FEC30E4C6A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6D37-23C6-495E-99DE-1DD0E91EC3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4C7A-9E05-4531-87FA-56922B9049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07F0-573A-4096-99C3-F43318B8C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ADF1-9573-486A-8411-F9E11AA5C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33F8-318D-453C-89A0-55FE5D4CB5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3ACF-605C-40E6-B7E8-01EC0397EA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747800" y="3133800"/>
            <a:ext cx="56484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06280" y="1681200"/>
            <a:ext cx="7915320" cy="34956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468360" y="2079720"/>
            <a:ext cx="358560" cy="2919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358560" cy="2919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468360" y="4365720"/>
            <a:ext cx="35856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81000" y="2104920"/>
            <a:ext cx="8980560" cy="26481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358560" cy="2919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3585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38160" y="2081160"/>
            <a:ext cx="9067680" cy="26956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2340000" y="2556000"/>
            <a:ext cx="719280" cy="291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1403280" y="2997360"/>
            <a:ext cx="792360" cy="291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2987640" y="3457440"/>
            <a:ext cx="792360" cy="2923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698400" y="3889440"/>
            <a:ext cx="792360" cy="291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1692360" y="4356000"/>
            <a:ext cx="7920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09440" y="2119320"/>
            <a:ext cx="8923320" cy="26193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152360" cy="2923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4284720" y="3016080"/>
            <a:ext cx="1511280" cy="2923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2843280" y="3448080"/>
            <a:ext cx="1008000" cy="2919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5148360" y="3924360"/>
            <a:ext cx="1008000" cy="2919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1042920" y="4365720"/>
            <a:ext cx="100800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42840" y="909720"/>
            <a:ext cx="9056880" cy="50385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1476360" y="1811160"/>
            <a:ext cx="1655640" cy="2923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2987640" y="2717640"/>
            <a:ext cx="2952720" cy="2923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1619280" y="3606840"/>
            <a:ext cx="1873080" cy="2919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2627280" y="4527720"/>
            <a:ext cx="2952720" cy="2919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1908000" y="5421240"/>
            <a:ext cx="360072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9:3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